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6.wmf" ContentType="image/x-wmf"/>
  <Override PartName="/ppt/media/image15.jpeg" ContentType="image/jpeg"/>
  <Override PartName="/ppt/media/image14.wmf" ContentType="image/x-wmf"/>
  <Override PartName="/ppt/media/image1.wmf" ContentType="image/x-wmf"/>
  <Override PartName="/ppt/media/image2.jpeg" ContentType="image/jpeg"/>
  <Override PartName="/ppt/media/image3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D30ED-7D3A-40FE-B836-0BE08D777B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AF1D5-22E8-4F8B-9BF3-D56F9767CD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CE297-18BA-4887-A942-DD64697859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0C418-E595-41D1-BB00-15CE7BC60E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82EA3-F862-4C6E-BE55-3232DD4B42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FE4CC-2F6C-4272-93D1-118D614DB0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3B71C-2A4D-472E-AA0E-EC2A37C008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6738A-17D1-4464-8DB1-0C52B60E33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C6AB3-6A43-432B-91E2-7608510C4E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77BA2-4947-4A52-A6CA-5F6DA88F9B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2AE4F-D3D5-4EB6-BFAB-60AB7B60A1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EDB8A-8EAA-4BC2-A3F7-54E0D71758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33DC-8D34-4D80-ADD1-3EBEC5EF0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3493-7065-4E85-9203-F9221F2A1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674E-5979-46D4-AEAB-A239A4E1E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21F3-2D78-40AC-B7B9-2CE6B40C7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C743-086F-4F30-9566-5CDF1CB80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EAA6-CBBB-485C-B82F-6424C5538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A4D3-43BB-4D59-BB87-E8B05911C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4215-5CE0-40D0-B83D-EB927C4DC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65C5-2A29-48C8-8826-6729FD5B9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3445-229D-4814-B57E-04094260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5E09-7B34-416C-8CB5-D2E62C9FD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D248-6911-4AD5-898D-C0F89668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A7E07-17DA-4C3D-A810-E0E010D567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440" y="4800240"/>
            <a:ext cx="5486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Rhyme Tim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C:\Program Files\Microsoft Office\MEDIA\CAGCAT10\j0234131.wmf"/>
          <p:cNvPicPr/>
          <p:nvPr/>
        </p:nvPicPr>
        <p:blipFill>
          <a:blip r:embed="rId1"/>
          <a:stretch/>
        </p:blipFill>
        <p:spPr>
          <a:xfrm>
            <a:off x="3048120" y="865080"/>
            <a:ext cx="338760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C:\Users\Hepner\AppData\Local\Microsoft\Windows\Temporary Internet Files\Content.IE5\3L8348RR\MPj04387200000[1].jpg"/>
          <p:cNvPicPr/>
          <p:nvPr/>
        </p:nvPicPr>
        <p:blipFill>
          <a:blip r:embed="rId1"/>
          <a:stretch/>
        </p:blipFill>
        <p:spPr>
          <a:xfrm>
            <a:off x="1600200" y="685800"/>
            <a:ext cx="5522760" cy="397188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 see a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fly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up in th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sky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C:\Users\Hepner\AppData\Local\Microsoft\Windows\Temporary Internet Files\Content.IE5\XV4UTWKM\MCj03319220000[1].wmf"/>
          <p:cNvPicPr/>
          <p:nvPr/>
        </p:nvPicPr>
        <p:blipFill>
          <a:blip r:embed="rId2"/>
          <a:stretch/>
        </p:blipFill>
        <p:spPr>
          <a:xfrm>
            <a:off x="3352680" y="1523880"/>
            <a:ext cx="2214720" cy="21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w it is your turn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do you see?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rite a sentence that rhymes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raw a picture to match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C:\Users\Hepner\AppData\Local\Microsoft\Windows\Temporary Internet Files\Content.IE5\3L8348RR\MCj04038930000[1].wmf"/>
          <p:cNvPicPr/>
          <p:nvPr/>
        </p:nvPicPr>
        <p:blipFill>
          <a:blip r:embed="rId1"/>
          <a:stretch/>
        </p:blipFill>
        <p:spPr>
          <a:xfrm>
            <a:off x="3581280" y="3886200"/>
            <a:ext cx="898560" cy="9302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C:\Users\Hepner\AppData\Local\Microsoft\Windows\Temporary Internet Files\Content.IE5\3L8348RR\MCj04038930000[1].wmf"/>
          <p:cNvPicPr/>
          <p:nvPr/>
        </p:nvPicPr>
        <p:blipFill>
          <a:blip r:embed="rId2"/>
          <a:stretch/>
        </p:blipFill>
        <p:spPr>
          <a:xfrm>
            <a:off x="4800600" y="3886200"/>
            <a:ext cx="898560" cy="9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447920" y="4876920"/>
            <a:ext cx="5486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I see a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Comic Sans MS"/>
              </a:rPr>
              <a:t>cat</a:t>
            </a: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wearing a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Comic Sans MS"/>
              </a:rPr>
              <a:t>hat</a:t>
            </a: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6" descr="C:\Users\Hepner\AppData\Local\Microsoft\Windows\Temporary Internet Files\Content.IE5\XV4UTWKM\MPj04447820000[1].jpg"/>
          <p:cNvPicPr/>
          <p:nvPr/>
        </p:nvPicPr>
        <p:blipFill>
          <a:blip r:embed="rId1"/>
          <a:srcRect l="56623" t="26450" r="0" b="8320"/>
          <a:stretch/>
        </p:blipFill>
        <p:spPr>
          <a:xfrm>
            <a:off x="3429000" y="641520"/>
            <a:ext cx="2362320" cy="40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440" y="4114440"/>
            <a:ext cx="5486400" cy="125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 see a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mouse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itting on a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house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C:\Users\Hepner\AppData\Local\Microsoft\Windows\Temporary Internet Files\Content.IE5\A01RF3KD\MPj03144060000[1].jpg"/>
          <p:cNvPicPr/>
          <p:nvPr/>
        </p:nvPicPr>
        <p:blipFill>
          <a:blip r:embed="rId1"/>
          <a:stretch/>
        </p:blipFill>
        <p:spPr>
          <a:xfrm>
            <a:off x="3200400" y="914400"/>
            <a:ext cx="3657600" cy="1706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C:\Program Files\Microsoft Office\MEDIA\CAGCAT10\j0185604.wmf"/>
          <p:cNvPicPr/>
          <p:nvPr/>
        </p:nvPicPr>
        <p:blipFill>
          <a:blip r:embed="rId2"/>
          <a:stretch/>
        </p:blipFill>
        <p:spPr>
          <a:xfrm>
            <a:off x="3657600" y="2209680"/>
            <a:ext cx="1828800" cy="18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red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0" descr="C:\Users\Hepner\AppData\Local\Microsoft\Windows\Temporary Internet Files\Content.IE5\60JF1WTJ\MCj03110200000[1].wmf"/>
          <p:cNvPicPr/>
          <p:nvPr/>
        </p:nvPicPr>
        <p:blipFill>
          <a:blip r:embed="rId1"/>
          <a:stretch/>
        </p:blipFill>
        <p:spPr>
          <a:xfrm>
            <a:off x="2743200" y="685800"/>
            <a:ext cx="3429000" cy="32097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1752480" y="3962520"/>
            <a:ext cx="5486400" cy="14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 see a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bed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that 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4114440"/>
            <a:ext cx="54864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 see a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duck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riding in 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truck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6" descr="C:\Users\Hepner\AppData\Local\Microsoft\Windows\Temporary Internet Files\Content.IE5\A01RF3KD\MCj03379700000[1].wmf"/>
          <p:cNvPicPr/>
          <p:nvPr/>
        </p:nvPicPr>
        <p:blipFill>
          <a:blip r:embed="rId1"/>
          <a:stretch/>
        </p:blipFill>
        <p:spPr>
          <a:xfrm>
            <a:off x="4495680" y="1981080"/>
            <a:ext cx="1830600" cy="981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C:\Users\Hepner\AppData\Local\Microsoft\Windows\Temporary Internet Files\Content.IE5\68ZGCRBG\MCj03038350000[1].wmf"/>
          <p:cNvPicPr/>
          <p:nvPr/>
        </p:nvPicPr>
        <p:blipFill>
          <a:blip r:embed="rId2"/>
          <a:stretch/>
        </p:blipFill>
        <p:spPr>
          <a:xfrm>
            <a:off x="2514600" y="1828800"/>
            <a:ext cx="3581280" cy="24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C:\Users\Hepner\AppData\Local\Microsoft\Windows\Temporary Internet Files\Content.IE5\XV4UTWKM\MCj03354860000[1].wmf"/>
          <p:cNvPicPr/>
          <p:nvPr/>
        </p:nvPicPr>
        <p:blipFill>
          <a:blip r:embed="rId1"/>
          <a:stretch/>
        </p:blipFill>
        <p:spPr>
          <a:xfrm>
            <a:off x="2895480" y="2023920"/>
            <a:ext cx="3886200" cy="29862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440" y="4495320"/>
            <a:ext cx="54864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 see a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bug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itting on 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92440" y="5486040"/>
            <a:ext cx="5486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rug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9" descr="C:\Users\Hepner\AppData\Local\Microsoft\Windows\Temporary Internet Files\Content.IE5\0DIV0T1J\MCj04380230000[1].png"/>
          <p:cNvPicPr/>
          <p:nvPr/>
        </p:nvPicPr>
        <p:blipFill>
          <a:blip r:embed="rId2"/>
          <a:stretch/>
        </p:blipFill>
        <p:spPr>
          <a:xfrm>
            <a:off x="3429000" y="129528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8" descr="C:\Users\Hepner\AppData\Local\Microsoft\Windows\Temporary Internet Files\Content.IE5\0DIV0T1J\MCj02871950000[1].wmf"/>
          <p:cNvPicPr/>
          <p:nvPr/>
        </p:nvPicPr>
        <p:blipFill>
          <a:blip r:embed="rId1"/>
          <a:stretch/>
        </p:blipFill>
        <p:spPr>
          <a:xfrm>
            <a:off x="2362320" y="1905120"/>
            <a:ext cx="4343400" cy="29527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52480" y="4648320"/>
            <a:ext cx="548640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 see a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can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n the fry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440" y="5638320"/>
            <a:ext cx="54864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pan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7" descr="C:\Users\Hepner\AppData\Local\Microsoft\Windows\Temporary Internet Files\Content.IE5\A01RF3KD\MCj03000730000[1].wmf"/>
          <p:cNvPicPr/>
          <p:nvPr/>
        </p:nvPicPr>
        <p:blipFill>
          <a:blip r:embed="rId2"/>
          <a:stretch/>
        </p:blipFill>
        <p:spPr>
          <a:xfrm>
            <a:off x="4343400" y="1752480"/>
            <a:ext cx="176688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440" y="4190760"/>
            <a:ext cx="5486400" cy="117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 see a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pot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at 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hot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C:\Users\Hepner\AppData\Local\Microsoft\Windows\Temporary Internet Files\Content.IE5\68ZGCRBG\MCj02376620000[1].wmf"/>
          <p:cNvPicPr/>
          <p:nvPr/>
        </p:nvPicPr>
        <p:blipFill>
          <a:blip r:embed="rId1"/>
          <a:stretch/>
        </p:blipFill>
        <p:spPr>
          <a:xfrm>
            <a:off x="3505320" y="533520"/>
            <a:ext cx="3628800" cy="33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52480" y="441936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 see a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frog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itting on 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92440" y="5562360"/>
            <a:ext cx="5486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log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4" descr="C:\Users\Hepner\AppData\Local\Microsoft\Windows\Temporary Internet Files\Content.IE5\BOTRE3XY\MCj02395470000[1].wmf"/>
          <p:cNvPicPr/>
          <p:nvPr/>
        </p:nvPicPr>
        <p:blipFill>
          <a:blip r:embed="rId1"/>
          <a:stretch/>
        </p:blipFill>
        <p:spPr>
          <a:xfrm>
            <a:off x="3505320" y="2133720"/>
            <a:ext cx="2651040" cy="21463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C:\Users\Hepner\AppData\Local\Microsoft\Windows\Temporary Internet Files\Content.IE5\XV4UTWKM\MCj04247100000[1].wmf"/>
          <p:cNvPicPr/>
          <p:nvPr/>
        </p:nvPicPr>
        <p:blipFill>
          <a:blip r:embed="rId2"/>
          <a:stretch/>
        </p:blipFill>
        <p:spPr>
          <a:xfrm>
            <a:off x="3657600" y="1676520"/>
            <a:ext cx="195912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0T23:52:10Z</dcterms:created>
  <dc:creator>Hepner</dc:creator>
  <dc:description/>
  <dc:language>en-US</dc:language>
  <cp:lastModifiedBy>Hepner</cp:lastModifiedBy>
  <dcterms:modified xsi:type="dcterms:W3CDTF">2009-11-28T18:13:23Z</dcterms:modified>
  <cp:revision>14</cp:revision>
  <dc:subject/>
  <dc:title>Rhyme Time</dc:title>
</cp:coreProperties>
</file>